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DD44-9868-4C51-A4D3-BB0912D90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F69F-C6E0-41FD-8023-332613FDB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395-8381-4B5C-83B0-A726186A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5D7-420F-41D5-859B-1CB93A4B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AB4-80C4-483D-B0B6-5C12F0EB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249-8BE2-41BD-AD3D-F26E081E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18D6-C35F-4CAD-87FB-D21F86B5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BA9B-4D95-4F90-93C8-C67FE8D2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5FDB-A3CF-4761-B847-49A28A01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C81D-BE09-439D-B036-2E31CBC6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5ED9-D91E-41BF-AFAC-C378035C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6F49-8224-4184-A3EF-914FC82D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37C4-2304-483A-B481-B2CE00FF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428-68D9-4F8A-A5C9-81D0C02C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21DA-3A2A-4416-B471-F39C8F13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93BE-D681-41D5-9EBE-25B10048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21DB-7DEF-4F76-AD17-3CA2C1D4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3DF8-9A59-4551-9739-274C7BC7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776F-7E55-4764-92A1-23C29788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675-6610-4859-BE06-1C0E149E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28D-50FE-486F-9F2F-18BD3D95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0C4-6B48-4B09-B271-AA4BEC1D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ECA-7DE3-409F-B5E0-04B62FAD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66D9-6309-4157-8E9A-209FE657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35B-9011-4605-89DD-C9649A55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334-0C87-40DF-9260-8BB987B1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A2A3-52BC-4D5C-9249-BA2DB77DBA4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CA15-E791-4826-89FE-3A0261F6E77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ociety and Relig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and political 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formation first broke out in the Free Imperial cities in Germany and Switzer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lds were often on the forefront of Re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wiss Reform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rich Zwing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istically educated, he credited Erasmus as setting him on the path to re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1518 he was known for his opposition to the sale of indulgences and religious superst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519 Zwingli became the people’s priest in Zu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ed priestly celib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ch 1522, broke the Lenten 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ached the authority of Scripture al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a Protestant, he had significant theological differences with Luther, which prevented an alliance with the German Prote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wiss Civil war forced the Swiss Catholics to recognize the Protest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nabaptists &amp; Radical Protestant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rad Grebel and the Swiss Brothe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used to baptize children, believing that only a consenting adult can accept Chr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ly separated themselves from secular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abaptist reign in Mun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ch emigrants led an Anabaptist takeover in 1534-15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eatures of the regime included charismatic leaders and polyga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was crushed by united Protestant and Catholic arm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adic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ritualists rejected institutional 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trinitarians  rejected the Tri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John Calv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in France and educated by the Church in May 1534 he joined the Re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revolt and religious reform in Gen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te 1520s Genevans revolted, and in 1527 the city council took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1, 1536 Geneva officially adopted the Re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 1536 Calvin arrived in Gen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rew up articles for the governance of the Church, which were approved, after much debate, in 15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lvin’s Genev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urch was organized into four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to instruct the popu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ders, laypeople chosen by the cou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cons to dispense church goods and services to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estination, the doctrine that only a chosen few are saved by God’s grace alone, without regard to acts or faith, was central to Calvin’s the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et of Augsburg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530, Charles V presided over this meeting of Protestants and Catholic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mperor ordered all Protestants to return to Catholi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ruary 1531, Schmalkaldic League formed to defend Lutheran inte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pa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out the 1530s German Lutherans formed regional consistories, judicial bodies which oversaw the new Protestant Chur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formation spread to Denmark and Sweden, and made inroads in Po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1540s Charles V went after the Prote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47, He crushed the League, putting puppet rulers in Hesse and Saxony and forcing Protestants to return to Catholic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rotestants fled to Magdebu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eace of Augsburg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formation was too entrenched by 1547 to be 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uppet ruler of Saxony became a Luthe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mperor was forced to re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ember 1555, The Peace of Augsburg made the division of Christendom perma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ius reg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ius relig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ruler of a land determines its 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therans were permitted to retain church lands confiscated before 15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id not extend recognition to Anabaptists and Calvin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glish Reform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and was a likely breeding ground for Protestantism, but its advance was s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and had a reputation for maintaining the authority of the crown against the p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ere already many secret Protest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llardy and Humanism also were influ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nry VI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 supported the Pope against Lu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ry’s first wife, Catherine of Aragon, did not provide him a son.  He wanted an annulment in order to marry Anne Boleyn, which was not gran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suggested that he declare himself supreme in English spiritual affairs, which would solve 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formation Parliament”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529 Parliament convened for what would be a seven year s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ed legislation that eventually put the clergy under the authority of the 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1531, the king was made officially the head of the church in Eng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32, published official grievances against the chur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34, ended all payments to Rome and gave Henry sole jurisdiction over ecclesiastical appoint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ame year the Act of Supremacy declared Henry “The only supreme head of the Church of England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ite these changes, Henry did not make many concessions to Protestant sensibilities, retaining most of the ritual and doctrinal trappings of Catholic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opular Religious Movements and Criticism of the Chur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ormation could not have happened without the earlier challenges to the Church’s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ignon pap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at Sc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iliar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naissance pap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 criticism of the church was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ought a more egalitarian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dward V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Henry died, his 10 year old son , Edward VI, took over the thr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d under several re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cted a series of reforms, bringing the Church of England more in line with Protestant Eng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553 Edward died, leaving his Catholic half-sister Mary as queen.  She quickly reversed the re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Counter-Reform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before the Reformation, Catholics had begun to make efforts at reforms, but they were squa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the Reformation set in, new religious orders had begun to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24, Theatines to groom church l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28, the monastic Capuch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esuits were the most successful of the reform mov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ed by Ignatius Loyola in the 1530s, it was recognized in 154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a military model, he wanted people to be “soldiers of Christ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ached self-mastery through discipline, self-sacrifice and obed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uncil of Trent (1545–1563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uccess of the Reformation forced the Church to call a general council, in order to reassert doctr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preparation the pope appointed liberal theologian Caspar Contarini to head a reform commi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uncil was strictly under the pope’s control.  Its most important reforms concerned internal discip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shops needed to preach regularly and spend time in their dioce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ests were required to be neatly dressed, educated and strictly celib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octrinal concessions were made to the Protesta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y reaffirmed many key doctrines such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role of good 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authority of tra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ulg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rs initially resisted the reforms, but eventually the new legislation took h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ligious life in fifteenth century citi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ergy were ubiquit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ily life was regulated by the calendar, with frequent fasts and festiva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asteries and nunneries were influenti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many Catholic clergy had concubines and children, and were often resented by lay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ome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testant rejection of celibacy accompanied  their rejection of the Medieval tendency to degrade women as temptresses or exalt them as virgins.  Instead they praised women as mothers and housew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riage was viewed as a partnership between man and w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had right to divorce and remarry, just as men d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wives remained subject to their husb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amily Life in Early Modern Europ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1500 and 1800 men and women married later than they ha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: mid to late 20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men: early to mid 20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s tended to be arranged, however it was usual for the couple to have known each other, and their feelings were often res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consisted of two parents and two to four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urch and physicians condemned those who hired wet n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ditional family had features that seem cold and distant.  The pragmatic was often stressed over the roman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formation did not only bring about cultural  changes.  There were also major innovations in lit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uel De Cervantes Saavedra was a Spanish 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 major work w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n Quix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was a satire of the chivalric romances popular in Spain.  The juxtaposition of idealism and realism in the novel was very innova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iam Shakespeare was an English playw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wrote histories, tragedies and comed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 work struck universal human themes, many of which were rooted in contemporary religious tra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rtin Luther &amp; the German Reform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Medieval Germany lacked the political unity to enforce large scale religious re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1517 discontent with the church was ripe enough for Martin Luther’s critiques to take 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7, Luther was ord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0, On his visit to Rome, he found the German complaints about the Church to be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, He earned his doctorate in Theology at the Augustinian Monastery in Witten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Justification by fait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ther was plagued by his sense of a disconnect between  his own sinfulness and the perfect righteousness God required for sal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concluded that God does not demand charitable acts and religious ceremonies, but just faith in Jesus Christ as perfect righteousness.  Good works were expected, but did not earn one salv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dulg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a priest could absolve a penitent of guilt, he still had an eternal penalty to pay. Absolution could turn that into a temporal punishment.  The remission of that temporal penalty was an indul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in 1343 the church started selling “letters of indulgenc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Luther’s time, they were often sold for small cash pay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ther’s protest in his Ninety-five Theses (October 31, 1517) was against the impression that indulgences remitted sin, which made it seem as if salvation could be bought and s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rles V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inety-five Theses were embraced by Nuremberg humanists, which made Luther a central figure in an already organized national German cultural m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 called before the general of his order to answer for his critic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anctions were being prepared against him, Emperor Maximillian I died (1519), which turned attention away from Lu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les I of Spain succeeded his Grandfather and became Emperor Charles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uther’s Excommunication and the Diet of Worm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7, 1519, Luther debated John Eck in Leipzig,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ed the infallibility of the pope and the inerrancy of church counci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led to the authority of scripture al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views were published in 152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ther was excommunicated on June 15, 15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et of W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ided over by Charle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ther presented his views and was placed under the Imperial ban as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ther was forced into hiding, protected by the Elector Freder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pread of the Reform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mperor was distracted by war with the French and the Tu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itted each local prince to enforce the ban as he saw fit, essentially giving them each religious authority in his own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any cities, princes began to enact religious reforms, and they welcomed Lutheran preac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lector of Saxony and the prince of Hesse both instated Protestantism in their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the 1530s German Protestant lands formed the Schmaldkaldic League and prepared for war with the empe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easants’ Revol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easants initially saw Luther as an ally, asking him for support in their demands to end serfdom and for other economic re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ther initially had sympathy for them, but when they invoked his name in their revolt he called them “unChristi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Luther, the freedom of Christianity lay in inner spiritual release, not revolutionary poli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volt was crushed, killing tens of thousands of pea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19:57:29Z</dcterms:created>
  <dc:creator>J. Russell</dc:creator>
  <dc:description/>
  <dc:language>en-US</dc:language>
  <cp:lastModifiedBy>Don Books</cp:lastModifiedBy>
  <dcterms:modified xsi:type="dcterms:W3CDTF">2011-09-16T17:22:58Z</dcterms:modified>
  <cp:revision>10</cp:revision>
  <dc:subject/>
  <dc:title>Society and Religion</dc:title>
</cp:coreProperties>
</file>